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B2F-D1AD-44E0-A04D-7937C640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C3B-D6ED-459C-AA4A-837B427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CFE-F5CC-45EF-B99A-3FDB3AE7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E9E-D5EA-46BC-9741-7133E4AE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649-8E9F-4D24-A11B-DCD2D05E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D41-AF2B-4A6B-9A60-825D9680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C07-3CFB-4F5D-9E18-D2ED64C4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4D0-DA10-473D-8095-8CC9B903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611-6A97-4DC6-A580-46695CAA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851-F0D4-446E-AB4E-550A3F3B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3DE-7D92-43A5-837E-5BCD7D07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A38-EB05-4F61-9552-15154034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20A7-3225-4BB2-B3C6-026DC6FB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blo_picasso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casso_three_musicians_moma_200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Dora_Maar_Au_Chat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Gar&#231;on_&#224;_la_pipe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File:2004-09-07_1800x2400_chicago_picasso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cassoGuernica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Bombing_of_Guernica" TargetMode="External"/><Relationship Id="rId4" Type="http://schemas.openxmlformats.org/officeDocument/2006/relationships/hyperlink" Target="http://en.wikipedia.org/wiki/Bombing_of_Guernica" TargetMode="External"/><Relationship Id="rId5" Type="http://schemas.openxmlformats.org/officeDocument/2006/relationships/hyperlink" Target="http://en.wikipedia.org/wiki/Spanish_Civil_War" TargetMode="External"/><Relationship Id="rId6" Type="http://schemas.openxmlformats.org/officeDocument/2006/relationships/hyperlink" Target="http://en.wikipedia.org/wiki/Guernica_(painting)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762120"/>
            <a:ext cx="350496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blo Picass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95720" y="2743200"/>
            <a:ext cx="253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457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Pablo Pica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371600"/>
            <a:ext cx="670536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n October 25, 1881 -  Died April 8, 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nish painter, draughtsman, and scul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know for wide variety of style in his work – especially  the Cubist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name is Pablo Diego José Francisco de Paula Juan Nepomuceno María de los Remedios Cipriano de la Santísima Trinidad Ruiz y Pic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309760"/>
            <a:ext cx="4724280" cy="425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2287440"/>
            <a:ext cx="327672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9360" bIns="9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ubist artworks, objects are broken up, analyzed, and re-assembled in an abstracted form—instead of depicting objects from one viewpoint, the artist depicts the subject from a multitude of viewpoints to represent the subject in a greater con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0" y="228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ub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066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sm was a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art movement pioneered by Pablo 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9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e Musicians, 19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2311200" cy="2781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24480" y="533520"/>
            <a:ext cx="24066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57600" y="3352680"/>
            <a:ext cx="202716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231156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33520" y="4038480"/>
            <a:ext cx="209052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429000" y="838080"/>
            <a:ext cx="261936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blo Picass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4880" y="457200"/>
            <a:ext cx="18478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3657600"/>
            <a:ext cx="2308320" cy="288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80120" y="762120"/>
            <a:ext cx="2624040" cy="3504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105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ulpture in Chic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28600"/>
            <a:ext cx="6858000" cy="4457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105520"/>
            <a:ext cx="72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ably Picasso’s most famous work is his depiction of the Germa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mbing of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uern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ring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panish Civil W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uern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857320" cy="3467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266724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2857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31:02Z</dcterms:created>
  <dc:creator>Patrick J. Mooney</dc:creator>
  <dc:description/>
  <dc:language>en-US</dc:language>
  <cp:lastModifiedBy>Patrick J. Mooney</cp:lastModifiedBy>
  <dcterms:modified xsi:type="dcterms:W3CDTF">2010-01-11T17:02:34Z</dcterms:modified>
  <cp:revision>2</cp:revision>
  <dc:subject/>
  <dc:title>Slide 1</dc:title>
</cp:coreProperties>
</file>